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88E-2223-4415-9683-FABDC2E52F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DAB-DDC0-4878-8463-B1A8A8267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67E-E051-4EC6-9A6B-573E23A5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83D-5C3B-436D-B2A6-6A8ABFC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69F-2590-491F-BB65-13C079D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D1B-B151-4981-9D65-9C7827DD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7E32-F5F2-4C3D-B7C8-7639C1CB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E99D-7099-457A-902A-806CA3D3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CFF1-6D68-47CC-8968-6CED7F8D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03BB-9F22-4D18-AC11-24C34498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4EF-CD40-4B1B-B371-31C7E15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8A8A-4C59-46BE-A479-762773F4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B496-661C-4A7A-8FD7-E487413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F6E-F933-4A03-B889-A6084D2D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74FD-92CF-48E4-AD83-F39F704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32C5-A7D0-4E45-B05C-A2C59D2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A4A-61F8-49AE-8E28-04721E87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4A31-E651-43A0-A608-63BF6349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61EA-D07A-46A7-9680-A1A4ACFF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D668-C957-4F7F-AD87-53B2E55A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9765-B829-4447-B40F-13787C37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91AB-17F8-48B4-9232-187436E3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BF8B-C9A8-4907-822A-8D9E7D7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A109-1C63-4992-B050-2437D86F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535-7288-4F42-A401-BDFF534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E9F5-ADAA-46E2-8228-65679648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FB5B-B31B-48D0-BC32-212625B3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DE25-08C4-4BF0-9435-AFD40AB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EF43-B7BB-4AAC-808E-9B39DBC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0634-D5A7-428E-AE3C-B0BA3DE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9113-632E-41CC-B56A-5963C649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5114-D25D-4128-9CF8-B9D140DF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08B7-C520-4FB5-932A-AE7F9527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0E08-BBF4-4EAA-A96B-2B16F17C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CC8D-E1BA-46C0-90F5-D3AA747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5C2-2A8B-4571-9254-4D58CDA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AC1A-B1BE-443A-8D26-1FE44A5E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5051-C4F4-4E3F-BD26-E408806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D970-EB67-416A-B7A5-91298E7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1166-885A-4815-8CDD-E651D32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31B86-529F-4F52-A85A-0740D5C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AED5-64BB-4B4F-8532-29DA14E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979A-2CCC-4E42-9303-95CD38A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6641-35BD-405B-8A7A-0B70FB75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6077A-6A8E-4A13-B689-E46B0A05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FA8-C1F7-48A9-9F48-53632FC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417-A622-4D50-86BC-1B2CB305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13E-B820-4712-9E68-F243082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F54-8897-47B9-BB0E-61677A59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CE1-F942-4463-B4DC-126057E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1578-6CBB-4C6A-B254-69E34CB926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A9D3-4EAC-4AE2-84E6-9B4E5799C5C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97D-D61E-40DC-94CB-871F3C23C70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5933-377E-45DE-8A7B-48BEDDD998F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1857240" y="1285920"/>
            <a:ext cx="6291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5" descr=""/>
          <p:cNvPicPr/>
          <p:nvPr/>
        </p:nvPicPr>
        <p:blipFill>
          <a:blip r:embed="rId1"/>
          <a:stretch/>
        </p:blipFill>
        <p:spPr>
          <a:xfrm>
            <a:off x="285840" y="1682640"/>
            <a:ext cx="8675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66640" y="1206360"/>
            <a:ext cx="81932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2840" y="133200"/>
            <a:ext cx="8650440" cy="178128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3" descr=""/>
          <p:cNvPicPr/>
          <p:nvPr/>
        </p:nvPicPr>
        <p:blipFill>
          <a:blip r:embed="rId2"/>
          <a:stretch/>
        </p:blipFill>
        <p:spPr>
          <a:xfrm>
            <a:off x="493560" y="1176480"/>
            <a:ext cx="82058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72428"/>
                </a:solidFill>
                <a:latin typeface="Calibri"/>
              </a:rPr>
              <a:t>На выполнение работы отводится 3 часа 55 минут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Экзаменационная работа состоит из 2 частей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Часть 1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держит 23 задания базового, повышенного, высокого уровня сложности. С кратким ответом, с самостоятельным формулированием и записью ответа в виде числа или последовательностью символов. 1 задание относится к базовому уровню, 10 заданий к повышенному уровню сложности, 1 задание к высокому уровню слож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Часть 2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держит 4 задания, первое из которых повышенного уровня сложности, остальные 3 задания высокого уровня сложности. Задания это части подрузамевают запись развернутого ответа в произвольной форме. Задания 2 части направлены на проверку сформированности важнейших умений записи и анализа алгоритм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Всего 27 заданий, максимальное количество первичных баллов за работу в целом в 2016 году – 35 первичных балл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Минимальный порог – 6 первичных баллов=40 тест. бал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0"/>
          <a:ext cx="9144000" cy="6953400"/>
        </p:xfrm>
        <a:graphic>
          <a:graphicData uri="http://schemas.openxmlformats.org/drawingml/2006/table">
            <a:tbl>
              <a:tblPr/>
              <a:tblGrid>
                <a:gridCol w="1714680"/>
                <a:gridCol w="1333440"/>
                <a:gridCol w="1523880"/>
                <a:gridCol w="1523880"/>
                <a:gridCol w="1524240"/>
                <a:gridCol w="1523880"/>
              </a:tblGrid>
              <a:tr h="167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реждение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выпускников не прошедших минимального пор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выпускников набравших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пева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тестовый бал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СОШ №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СОШ №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СОШ.№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СОШ №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9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СОШ №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СОШ №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гимназия №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Шугур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Calibri"/>
                          <a:ea typeface="Calibri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2303e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1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,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2,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редний балл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оставил: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ервичный – 13,07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, в переводе в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естовый – 53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   Самый высокий показатель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СОШ № 8 – 20 первичных баллов = 66 тестовых баллов;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ше муниципального показателя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СОШ № 8, СОШ № 6, в СОШ № 5.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Самый низкий показатель в СОШ № 4 – 5 первичных баллов = 34 тестовых баллов;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493560" y="5425920"/>
            <a:ext cx="81932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8568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Успеваемость 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– 92,85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Успеваемость во всех  школах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кроме СОШ № 4) –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10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нимальный порог не прошел один ученик  СОШ № 4 (Хаеров Марат Минсагитович), выполнив верно 5 зада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Лучший результат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ученика из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СОШ № 8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типова Ивана Вячеславовича –  21 первичных баллов = 68 тестовых бал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5840" y="1285920"/>
            <a:ext cx="857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нализ результатов тестирования по информатике и ИКТ выпускников 11-х классов ЛМР РТ 24.11.2015 г. показал, что обучающиеся справились с заданиями экзамена на неудовлетворительном уровне, не все обучающиеся преодолели минимальный порог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метить положительный опыт работы по подготовке к ЕГЭ по информатике и ИКТ администрации и учителей информатики и ИКТ СОШ № 5, № 6, № 8 (успеваемость – 100%, сред. балл выше муниципального показателя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472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Рекомендации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О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сти анализ результатов экзамена по информатике и ИКТ выпускников 11-х классов по ОУ Лениногорского муниципального района, разработать и запланировать систему мер, направленных на улучшение результатов Государственной (итоговой) аттестации по информатике и ИКТ в 2015-2016 учебном год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Провести в январе муниципальное тестирование по информатике и ИКТ для учащихся 11 классов, с использованием КИМ-ов РЦИМК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1. Руководителям общеобразовательных учреждени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Руководителям учреждений образования провести анализ результатов экзамена по информатике и ИКТ и разработать систему мер, направленных на улучшение результатов ЕГЭ в 2015-2016 учебном год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Держать на личном контроле посещение учителей информатики и ИКТ своего учреждения действующего в ЛМР ММО, ресурсного центра по подготовке к ОГЭ и ЕГЭ в 2015-2016 учебном год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Систематически посещать уроки учителей информатики и ИКТ в 2015-2016 учебном году с целью оказания методической помощи и контрол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3763"/>
                </a:solidFill>
                <a:latin typeface="Constantia"/>
              </a:rPr>
              <a:t>Руководителю СОШ № 4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местить на стенде и сайте своей школы график дополнительных занятий по подготовке к ЕГЭ по информатике и ИКТ 2016 год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Учителям информатики и ИКТ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сти анализ затруднений обучающихся по результатам экзамена с целью их устранения в 2014-2015 учебном год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ратить внимание на обработку общеучебных умений и навыков учащихся, скорость вычислительных действий,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гулярно посещать ММО, занятия ресурсного центра по подготовке к ГИА и ЕГЭ в 2015-2016 учебном год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ям информатики и ИКТ необходимо осуществлять специальную подготовку учащихся к экзамену. Формировать умение работать с различными типами тестовых заданий и заполнять бланки ответов, учить планировать время работы над различными частями экзамена, учитывая особенности экзаменационной работы и системы оцени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ям информатики и ИКТ необходимо в процессе обучения уделять больше внимание развитию самостоятельности и творческого мышления учащихся, как за счет грамотного подбора нестандартных заданий, при решении которых проявляются определенные «методически заложенные» трудности и предполагающие возможность неоднозначного решения, так и за счет увеличения активных форм, методов и приемов обучен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гидуллина </cp:lastModifiedBy>
  <dcterms:modified xsi:type="dcterms:W3CDTF">2015-12-03T04:30:10Z</dcterms:modified>
  <cp:revision>68</cp:revision>
  <dc:subject/>
  <dc:title>Анализ диагностического тестирования  по математике выпускников 11-ых классов Лениногорского муниципального района РТ за 2011-2012 уч. год. </dc:title>
</cp:coreProperties>
</file>